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29.png" ContentType="image/png"/>
  <Override PartName="/ppt/media/image6.png" ContentType="image/png"/>
  <Override PartName="/ppt/media/image45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12.jpeg" ContentType="image/jpeg"/>
  <Override PartName="/ppt/media/image34.png" ContentType="image/png"/>
  <Override PartName="/ppt/media/image43.png" ContentType="image/png"/>
  <Override PartName="/ppt/media/image47.jpeg" ContentType="image/jpeg"/>
  <Override PartName="/ppt/media/image4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51.jpeg" ContentType="image/jpeg"/>
  <Override PartName="/ppt/media/image46.jpeg" ContentType="image/jpeg"/>
  <Override PartName="/ppt/media/image9.wmf" ContentType="image/x-wmf"/>
  <Override PartName="/ppt/media/image25.png" ContentType="image/pn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943F-A909-4C9B-9EB1-6A309C60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9367-EA5C-4B39-9F77-77B4DC324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D4A-C33C-42C0-BC0D-87792FE9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CA3-D822-48FD-B3B7-8C3DFCA6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598-55F8-427D-8557-61015722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DA7-20AB-4DD3-8A48-4690AB2D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0A9E-0A5A-414D-B5EB-B9DAFAF2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8FB5-A598-44C2-AB46-6EAF7015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7EC2-361B-40FC-87CD-E703D1E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FAD0-89E0-4D46-BF1E-AF9F8FCF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4396-F4CF-4DB9-B83F-5F7A80BA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22F7-CFC7-45AE-943D-312D57BE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6EAE-9888-41AA-BEDC-66884A3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EC4-58DD-434A-A2C9-8A720E9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5F76-AE5F-418A-A9FE-3C4792E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889D-E472-4374-A626-8987EE6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3FA8-5F37-4839-9F3C-72BF563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47B8-FEDD-4444-9E1A-7323DE00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7E20-63F2-4EFA-BA6C-A1F89508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42DB-0D59-4A28-B266-C9412556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FD58-7C58-449F-BCAD-F66021DA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2718-A4E6-412F-842C-A9D11B5A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AEC1-57AA-4FF2-8D95-440284E9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4DC1-74B6-4018-930C-9EF44F88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DE1-1D57-4E34-A01B-3030041D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7ED1-748F-493E-9B04-4059276B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97F3-4430-4311-9550-FAC5DDD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3C7A-5834-4C16-B629-521838D1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DF63-FBC7-4FFF-97DF-EEA4DFA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DC6D-AF5B-452D-BFFE-314A68E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08BD-BE6C-4060-BC9C-8EDED55C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243C-AD36-4717-9F98-C6410E23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522D4-7953-4F93-98CD-AE68B66E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4CC9-5F50-4C61-A115-DB238745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F7C7-39DD-48D6-B9D5-F757D82B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C80-D584-4B6D-9F91-0BA026D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7BF1-F476-47B2-869C-9E7B4BC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7288-F1F4-4081-AA47-5F419BBF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6484-6813-4E5E-9CF5-2F25ADF2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A731-820C-41F9-BDD7-972CF6C9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1008-A6EA-4D13-8475-D301876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07B5-144A-4437-A07D-7192E7EC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5D3E-AAD5-4F98-9A39-8820ED6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A38E-6DD5-4A62-924B-55CEC846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9CD5-4678-4DF0-B496-2BADE8DD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5692-A276-4131-A8A3-9E32AC66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4EB-3436-4E8A-9295-3293DF7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D13BC-2489-4449-9671-D8ADC350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974BB-C4BF-459A-B5D8-0D712D3C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1BEC-451E-4678-9206-B03EF09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10591-A356-4330-AF8B-04BCAEF2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47B8-6AC5-4624-B30F-E63DA78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3B7D-6E8D-47DF-A5C0-4DD90D5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E74D-3964-48D4-B33D-B407559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E718-9892-4CA9-950F-7C23F9A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7C9B2-2583-47C6-8211-09C96321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89A8-6662-435B-ABC4-BD09C1DA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315-89A2-4AAE-A0F2-60A72DA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6F2D-5675-40AB-B8D1-EA2FB614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6011-B70A-46ED-AF14-0B458EEC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CA714-C514-460B-A50C-838F1422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801D2-821E-4A61-8667-CA33482D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DF4BF-12F5-439A-9A4B-52C309B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74809-DBA7-4388-B93F-5AE89811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E3EF-EC12-4F9F-AF96-01968759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8970-1A21-4011-BCAA-A2D0418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8E51-9942-49D5-9513-F32B4D7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6144D-05E7-4F73-8710-A9613C3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48C-60E2-4FD1-A90B-865FBB4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DD59-3142-435D-BEB7-F495B032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A1C9-3CBC-46ED-82E9-7F9F96F4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14F3D-35BB-44D3-92EC-13866589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70EF-8737-4F02-B2FC-1E63A644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8D10-76A4-43A1-9ED2-C478FD1A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2A3A9-69D2-4D30-B42E-84EC46DE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943BF-D316-4251-81B7-0A1B648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2B1A-2922-4296-8438-F9DD473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33625-B6ED-4FAA-A206-0CBE0061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8905-A8F2-49C2-B901-16872DE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44E-4512-471A-9E3A-CEA8EC47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5F0D5-73F6-480C-92FB-0E8EA91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2D811-52D6-4CD8-92B8-6A7AE946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CE205-D083-404B-B667-3BDA5CE4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0FB1-D1CC-4E42-994C-1BC50068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6871-43CB-4E62-AD90-43FAAD1B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A271-67C6-4A1B-8774-CE0BA41A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E7F20-E8E1-4372-9D5F-31DBA3A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411A4-2072-4B06-9106-2BF49548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9B1B-F97D-485D-B75B-C690D800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1C47-2A6B-47A8-9D88-BA237BF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3F9-05D1-4EE6-84F7-D44E19EF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7756-BB79-4A82-8FF9-AAD4BA5D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21CE4-344F-436C-910A-108F50A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8CAD3-588C-4DB2-98DF-262A1A4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3C0A0-E152-4E2B-9A7E-0ADBC9FE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10D9D-B0E1-4FE8-92D3-8BAEA48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43C74-2472-427D-B27F-06D327DA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25A3-C303-4210-B5FC-C47BAC8D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9A1-A6F6-4DED-8F14-FAFEF654A4B7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180A-5DB6-43A8-8A79-3A3B0888AC2A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6E2-A124-47C9-AF79-A6444BE520CC}" type="slidenum"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8356-3A0B-4E8D-AAA2-4E55DD08D76B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9A97-8587-4FAD-85C2-857439DF7C7B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CBE0-F4D3-4901-8945-E6FE0993F1A7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5178-389A-48DE-823C-B37A0C72BC74}" type="slidenum"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958F-DB27-419B-8A2C-C88FB173784A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google.com/url?sa=i&amp;rct=j&amp;q=&amp;esrc=s&amp;frm=1&amp;source=images&amp;cd=&amp;cad=rja&amp;docid=cm6SdmHUrWYtqM&amp;tbnid=SuvCrw98c1H1aM:&amp;ved=0CAUQjRw&amp;url=http%3A%2F%2Fglossary.periodni.com%2Fdownload_image.php%3Fname%3Ddistillation.png%26source%3Ddistillation&amp;ei=YaokUu7QA4-64AOnzoC4Cw&amp;psig=AFQjCNEi2SEDTJndMry4_UDfpWNwVJ7tOg&amp;ust=1378221019471124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hapter 1</a:t>
            </a:r>
            <a:br>
              <a:rPr sz="3200"/>
            </a:br>
            <a:r>
              <a:rPr b="0" lang="en-US" sz="3100" spc="-1" strike="noStrike">
                <a:solidFill>
                  <a:srgbClr val="c0504d"/>
                </a:solidFill>
                <a:latin typeface="Bookman Old Style"/>
              </a:rPr>
              <a:t>Chemistry:  The Science of Matter</a:t>
            </a:r>
            <a:endParaRPr b="0" lang="en-US" sz="31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Bookman Old Style"/>
              </a:rPr>
              <a:t>Fill in the blanks in your notes with the words bolded in </a:t>
            </a:r>
            <a:r>
              <a:rPr b="1" lang="en-US" sz="1700" spc="-1" strike="noStrike">
                <a:solidFill>
                  <a:srgbClr val="f79646"/>
                </a:solidFill>
                <a:latin typeface="Bookman Old Style"/>
              </a:rPr>
              <a:t>orange</a:t>
            </a:r>
            <a:r>
              <a:rPr b="0" lang="en-US" sz="1700" spc="-1" strike="noStrike">
                <a:solidFill>
                  <a:srgbClr val="1f497d"/>
                </a:solidFill>
                <a:latin typeface="Bookman Old Styl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37760" y="9903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38120" y="183780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haracteristics that a sample of matter exhibits without any change in its identity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504960" cy="2152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5760" y="3733560"/>
            <a:ext cx="403992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Chemical Properti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2" name="Content Placeholder 4"/>
          <p:cNvSpPr/>
          <p:nvPr/>
        </p:nvSpPr>
        <p:spPr>
          <a:xfrm>
            <a:off x="455760" y="4191120"/>
            <a:ext cx="40384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ability of a substance to combine with or change into one or more other substan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888840" y="1409760"/>
            <a:ext cx="7366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Macroscopic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Microscopic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atter that is large enough to be seen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atter that cannot be seen with the naked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2546280" y="3095640"/>
            <a:ext cx="3673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 observation that can be made without measurement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 observation that uses measurement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07" name="Picture 2" descr="C:\Users\bjones\AppData\Local\Microsoft\Windows\Temporary Internet Files\Content.IE5\0ZKF0277\MC900290924[1].wmf"/>
          <p:cNvPicPr/>
          <p:nvPr/>
        </p:nvPicPr>
        <p:blipFill>
          <a:blip r:embed="rId1"/>
          <a:stretch/>
        </p:blipFill>
        <p:spPr>
          <a:xfrm>
            <a:off x="6858000" y="3657600"/>
            <a:ext cx="1692360" cy="1665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bjones\AppData\Local\Microsoft\Windows\Temporary Internet Files\Content.IE5\SC43B9M9\MC900149862[1].wmf"/>
          <p:cNvPicPr/>
          <p:nvPr/>
        </p:nvPicPr>
        <p:blipFill>
          <a:blip r:embed="rId2"/>
          <a:stretch/>
        </p:blipFill>
        <p:spPr>
          <a:xfrm>
            <a:off x="4952880" y="3352680"/>
            <a:ext cx="1320840" cy="2714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Users\bjones\AppData\Local\Microsoft\Windows\Temporary Internet Files\Content.IE5\0ZKF0277\MC900232282[1].wmf"/>
          <p:cNvPicPr/>
          <p:nvPr/>
        </p:nvPicPr>
        <p:blipFill>
          <a:blip r:embed="rId3"/>
          <a:stretch/>
        </p:blipFill>
        <p:spPr>
          <a:xfrm>
            <a:off x="1035000" y="3809880"/>
            <a:ext cx="2851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you should read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pages 3-15 in your textbook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ith the reading, slides 9-13, and your notes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hould be able to complete homework #1, part B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54380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tle 3"/>
          <p:cNvSpPr/>
          <p:nvPr/>
        </p:nvSpPr>
        <p:spPr>
          <a:xfrm>
            <a:off x="1101600" y="4267080"/>
            <a:ext cx="69645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http://www.geog.ucsb.edu/img/news/2008/ginkgo_leaf.JPG"/>
          <p:cNvPicPr/>
          <p:nvPr/>
        </p:nvPicPr>
        <p:blipFill>
          <a:blip r:embed="rId1"/>
          <a:stretch/>
        </p:blipFill>
        <p:spPr>
          <a:xfrm>
            <a:off x="2743200" y="1752480"/>
            <a:ext cx="3341520" cy="28702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2"/>
          <p:cNvSpPr/>
          <p:nvPr/>
        </p:nvSpPr>
        <p:spPr>
          <a:xfrm>
            <a:off x="1371600" y="4869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lor a physical or chemical property of matter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6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8" name="Title 3"/>
          <p:cNvSpPr/>
          <p:nvPr/>
        </p:nvSpPr>
        <p:spPr>
          <a:xfrm>
            <a:off x="1143000" y="4724280"/>
            <a:ext cx="6966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Bookman Old Style"/>
              </a:rPr>
              <a:t>Both of these are mixture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man Old Style"/>
              </a:rPr>
              <a:t>Explain</a:t>
            </a:r>
            <a:r>
              <a:rPr b="0" lang="en-US" sz="2700" spc="-1" strike="noStrike">
                <a:solidFill>
                  <a:srgbClr val="0d0d0d"/>
                </a:solidFill>
                <a:latin typeface="Bookman Old Style"/>
              </a:rPr>
              <a:t> how they are different from one another (besides their physical stat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http://3.bp.blogspot.com/_EgPcrnOHcjA/TL_Cdd5cZqI/AAAAAAAABCk/V7eiWmRkOuE/s1600/gatorade.jpg"/>
          <p:cNvPicPr/>
          <p:nvPr/>
        </p:nvPicPr>
        <p:blipFill>
          <a:blip r:embed="rId1"/>
          <a:stretch/>
        </p:blipFill>
        <p:spPr>
          <a:xfrm>
            <a:off x="2133720" y="1986120"/>
            <a:ext cx="1817640" cy="2617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http://library.thinkquest.org/05aug/00461/images/granite.jpg"/>
          <p:cNvPicPr/>
          <p:nvPr/>
        </p:nvPicPr>
        <p:blipFill>
          <a:blip r:embed="rId2"/>
          <a:stretch/>
        </p:blipFill>
        <p:spPr>
          <a:xfrm>
            <a:off x="4267080" y="2133720"/>
            <a:ext cx="30942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assifications of Matter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36400" y="1352520"/>
            <a:ext cx="8071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ixtur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3143160"/>
            <a:ext cx="4040280" cy="4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Heterogeneous Mixtur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4720" y="3132000"/>
            <a:ext cx="4041720" cy="4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Homogeneous Mixtur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28600" y="3580920"/>
            <a:ext cx="419400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mixture with different composition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5080" y="3598920"/>
            <a:ext cx="40384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mixture that is the same throughout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t is also referred to as a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solut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28" name="Content Placeholder 2"/>
          <p:cNvSpPr/>
          <p:nvPr/>
        </p:nvSpPr>
        <p:spPr>
          <a:xfrm>
            <a:off x="45720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mixtur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is a combination of two or more substances in which the basic identity of each substance is not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3427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76000"/>
              <a:buFont typeface="Bookman Old Style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Mixtures can be separated into its components by physical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0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"/>
          <p:cNvPicPr/>
          <p:nvPr/>
        </p:nvPicPr>
        <p:blipFill>
          <a:blip r:embed="rId2"/>
          <a:stretch/>
        </p:blipFill>
        <p:spPr>
          <a:xfrm>
            <a:off x="7010280" y="50292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ypes of Solution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Solid Solutions: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Alloy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are solid solutions that contain different metals and sometimes nonmetallic substance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Liquid Solutions: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solut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substance that is being dissolved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solven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substance that does the dissolving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400"/>
              </a:spcBef>
              <a:buClr>
                <a:srgbClr val="a94543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When the solvent is water, the solution is called </a:t>
            </a:r>
            <a:r>
              <a:rPr b="1" lang="en-US" sz="1800" spc="-1" strike="noStrike">
                <a:solidFill>
                  <a:srgbClr val="f79646"/>
                </a:solidFill>
                <a:latin typeface="Bookman Old Style"/>
              </a:rPr>
              <a:t>an aqueous solution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2"/>
          <a:stretch/>
        </p:blipFill>
        <p:spPr>
          <a:xfrm>
            <a:off x="3119400" y="2438280"/>
            <a:ext cx="2847960" cy="1600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1295280" y="213372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st the senses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hat can be used to make an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Which one should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definitely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not use in a chemistry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7467480" y="762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Separation Techniqu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Filtration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ed to separate a mixture with widely varying particles size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Distillation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ed to separate a liquid mixture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rystallization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ed to separate an aqueous solution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hromatography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parates a mixture based on polarity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304920" y="6019920"/>
            <a:ext cx="86104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143000" cy="1816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http://www.periodni.com/gallery/distillat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4651200"/>
            <a:ext cx="1828800" cy="2011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http://www.reciprocalnet.org/edumodules/crystallization/images/crystallization.jpg"/>
          <p:cNvPicPr/>
          <p:nvPr/>
        </p:nvPicPr>
        <p:blipFill>
          <a:blip r:embed="rId4"/>
          <a:stretch/>
        </p:blipFill>
        <p:spPr>
          <a:xfrm>
            <a:off x="4964040" y="5010120"/>
            <a:ext cx="1890720" cy="15336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9" descr=""/>
          <p:cNvPicPr/>
          <p:nvPr/>
        </p:nvPicPr>
        <p:blipFill>
          <a:blip r:embed="rId5"/>
          <a:stretch/>
        </p:blipFill>
        <p:spPr>
          <a:xfrm>
            <a:off x="7315200" y="4929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read pages 18-31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ith the reading, slides #17-20, and your notes,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you should be able to complete homework #2, part A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hat kind of mixture does this represent?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2316240" y="1905120"/>
            <a:ext cx="4160880" cy="25938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385560" y="523224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ow could you separate it into its individual compon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bostonpersonalinjurylawyerblog.com/Hot%20Coffee.jpg"/>
          <p:cNvPicPr/>
          <p:nvPr/>
        </p:nvPicPr>
        <p:blipFill>
          <a:blip r:embed="rId1"/>
          <a:stretch/>
        </p:blipFill>
        <p:spPr>
          <a:xfrm>
            <a:off x="2797200" y="3192480"/>
            <a:ext cx="3657600" cy="28130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746748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itle 3"/>
          <p:cNvSpPr/>
          <p:nvPr/>
        </p:nvSpPr>
        <p:spPr>
          <a:xfrm>
            <a:off x="1143000" y="1676520"/>
            <a:ext cx="6966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man Old Style"/>
              </a:rPr>
              <a:t>Name</a:t>
            </a:r>
            <a:r>
              <a:rPr b="0" lang="en-US" sz="2700" spc="-1" strike="noStrike">
                <a:solidFill>
                  <a:srgbClr val="0d0d0d"/>
                </a:solidFill>
                <a:latin typeface="Bookman Old Style"/>
              </a:rPr>
              <a:t> the separation technique is used to make coffee or tea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Physical Chang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physical chang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is a change in matter that does not involve a change in the identity of individual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Matter exists in one of three states (solid, liquid, or gas) depending on its temperatur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Any change in state is a physical chang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f a substance is described as being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volatile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, it becomes a gas easily at room temperatur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Mixtures are separated by a physical change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295280" y="508644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"/>
          <p:cNvPicPr/>
          <p:nvPr/>
        </p:nvPicPr>
        <p:blipFill>
          <a:blip r:embed="rId2"/>
          <a:stretch/>
        </p:blipFill>
        <p:spPr>
          <a:xfrm>
            <a:off x="4898880" y="5086440"/>
            <a:ext cx="2438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Substanc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Compound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00240" y="114264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18288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s type of pure substance can be broken down into simpler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64600" indent="-2646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t is a chemical combination of two or more different elements joined together in a fixed proportion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48320" y="18288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s type of pure substance cannot be broken down into simpler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y are the simplest form of matter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"/>
          <a:stretch/>
        </p:blipFill>
        <p:spPr>
          <a:xfrm>
            <a:off x="5791320" y="47052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2"/>
          <a:srcRect l="50004" t="5048" r="0" b="7688"/>
          <a:stretch/>
        </p:blipFill>
        <p:spPr>
          <a:xfrm>
            <a:off x="7620120" y="4705200"/>
            <a:ext cx="1233360" cy="1257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"/>
          <p:cNvPicPr/>
          <p:nvPr/>
        </p:nvPicPr>
        <p:blipFill>
          <a:blip r:embed="rId3"/>
          <a:stretch/>
        </p:blipFill>
        <p:spPr>
          <a:xfrm>
            <a:off x="3962520" y="4705200"/>
            <a:ext cx="16700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ompound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properties of a compound are different from the properties of the elements that compose the compound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A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formula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a combination of the chemical symbols that show what elements make up a compound and the number of atoms of each element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substanc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is matter with the same fixed composition and properti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Things that are pure are made up of only one kind of matter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Compounds are separated into their component elements by chemical mean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hemical Chang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chemical change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s a process that involves one or more substances changing into new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t is also referred to as a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hemical react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The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law of conservation of mass 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(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matter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) says that in a chemical change matter is neither created nor destroyed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470" name="Picture 8" descr="https://encrypted-tbn3.gstatic.com/images?q=tbn:ANd9GcTblwXV22wBq1HYKlmy_NWnMZ4QjiZLLC7MVJSw8h5gKUY0hEyPLw"/>
          <p:cNvPicPr/>
          <p:nvPr/>
        </p:nvPicPr>
        <p:blipFill>
          <a:blip r:embed="rId1"/>
          <a:stretch/>
        </p:blipFill>
        <p:spPr>
          <a:xfrm>
            <a:off x="914400" y="4343400"/>
            <a:ext cx="2362320" cy="1933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"/>
          <p:cNvSpPr/>
          <p:nvPr/>
        </p:nvSpPr>
        <p:spPr>
          <a:xfrm>
            <a:off x="3790800" y="4800600"/>
            <a:ext cx="377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5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38 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-&gt; 25 C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26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nergy Chang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hemical changes involve an energy change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Energy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the capacity to do work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done whenever something is moved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emical reactions that give off heat energy are called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exothermi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emical reactions that absorb heat energy are called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endothermi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2471760" y="3809880"/>
            <a:ext cx="2390760" cy="2390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17683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read pages 18-31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ith the reading, slides #24-28, and your notes,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you should be able to complete homework #2, Part B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he Scientific Method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scientific method is the systematic approach used in scientific study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Observat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the act of gathering information by using your senses on a macroscopic level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Hypothesis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 testable prediction used to explain an observation (if, then)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Experiment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 set of observations used to test a hypothesi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trol, independent variable, dependent variable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onclus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addresses whether or not the hypothesis is supported by the results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1344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9" name="Title 3"/>
          <p:cNvSpPr/>
          <p:nvPr/>
        </p:nvSpPr>
        <p:spPr>
          <a:xfrm>
            <a:off x="824040" y="4813200"/>
            <a:ext cx="696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List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which of the following represent a physical chan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http://stainednapkin.files.wordpress.com/2011/09/boiling-water.jpg"/>
          <p:cNvPicPr/>
          <p:nvPr/>
        </p:nvPicPr>
        <p:blipFill>
          <a:blip r:embed="rId1"/>
          <a:srcRect l="26240" t="0" r="0" b="0"/>
          <a:stretch/>
        </p:blipFill>
        <p:spPr>
          <a:xfrm>
            <a:off x="2189160" y="1752480"/>
            <a:ext cx="1390680" cy="1257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http://www.johnlund.com/images/Mushroom-Cloud-Fireball-Explosion.jpg"/>
          <p:cNvPicPr/>
          <p:nvPr/>
        </p:nvPicPr>
        <p:blipFill>
          <a:blip r:embed="rId2"/>
          <a:srcRect l="30371" t="30180" r="19552" b="12362"/>
          <a:stretch/>
        </p:blipFill>
        <p:spPr>
          <a:xfrm>
            <a:off x="3657600" y="1752480"/>
            <a:ext cx="1285920" cy="12956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http://www.betterphoto.com/uploads/processed/0019/0412010829571grinding-11.jpg"/>
          <p:cNvPicPr/>
          <p:nvPr/>
        </p:nvPicPr>
        <p:blipFill>
          <a:blip r:embed="rId3"/>
          <a:srcRect l="21278" t="0" r="0" b="0"/>
          <a:stretch/>
        </p:blipFill>
        <p:spPr>
          <a:xfrm>
            <a:off x="5029200" y="1752480"/>
            <a:ext cx="1549440" cy="1295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http://www.paris-cooking-class.com/wp-content/uploads/2011/11/couteau-tomate.jpg"/>
          <p:cNvPicPr/>
          <p:nvPr/>
        </p:nvPicPr>
        <p:blipFill>
          <a:blip r:embed="rId4"/>
          <a:srcRect l="10827" t="0" r="18008" b="6198"/>
          <a:stretch/>
        </p:blipFill>
        <p:spPr>
          <a:xfrm>
            <a:off x="2189160" y="3117960"/>
            <a:ext cx="1390680" cy="1216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http://www.unlearning101.com/.a/6a00e55291856388330120a82a2676970b-320pi"/>
          <p:cNvPicPr/>
          <p:nvPr/>
        </p:nvPicPr>
        <p:blipFill>
          <a:blip r:embed="rId5"/>
          <a:srcRect l="0" t="12411" r="0" b="4391"/>
          <a:stretch/>
        </p:blipFill>
        <p:spPr>
          <a:xfrm>
            <a:off x="5029200" y="3146400"/>
            <a:ext cx="1549440" cy="1211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http://1.bp.blogspot.com/-n8RPExR2iJc/TmefTzGMZ6I/AAAAAAAAA-M/a2RB4U05LrI/s1600/3leaf.jpg"/>
          <p:cNvPicPr/>
          <p:nvPr/>
        </p:nvPicPr>
        <p:blipFill>
          <a:blip r:embed="rId6"/>
          <a:srcRect l="0" t="0" r="3443" b="0"/>
          <a:stretch/>
        </p:blipFill>
        <p:spPr>
          <a:xfrm>
            <a:off x="3668760" y="3146400"/>
            <a:ext cx="12747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-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754380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itle 3"/>
          <p:cNvSpPr/>
          <p:nvPr/>
        </p:nvSpPr>
        <p:spPr>
          <a:xfrm>
            <a:off x="1101600" y="4267080"/>
            <a:ext cx="69645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"/>
          <p:cNvSpPr/>
          <p:nvPr/>
        </p:nvSpPr>
        <p:spPr>
          <a:xfrm>
            <a:off x="1101600" y="19810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both of these objects take up the same space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object is more dense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http://www.caseyswood.com/shoppingcart/zen-cart/images/Wood%20Cube%20Block%20(171B).JPG"/>
          <p:cNvPicPr/>
          <p:nvPr/>
        </p:nvPicPr>
        <p:blipFill>
          <a:blip r:embed="rId1"/>
          <a:stretch/>
        </p:blipFill>
        <p:spPr>
          <a:xfrm>
            <a:off x="2133720" y="4019400"/>
            <a:ext cx="1752480" cy="1697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http://st.houzz.com/fimages/267675_4481-w422-h336-b1-p0--modern-side-tables-and-accent-tables.jpg"/>
          <p:cNvPicPr/>
          <p:nvPr/>
        </p:nvPicPr>
        <p:blipFill>
          <a:blip r:embed="rId2"/>
          <a:srcRect l="4095" t="0" r="0" b="0"/>
          <a:stretch/>
        </p:blipFill>
        <p:spPr>
          <a:xfrm>
            <a:off x="4583160" y="4398840"/>
            <a:ext cx="1170000" cy="9702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4267080" y="4019400"/>
            <a:ext cx="1752840" cy="1697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2666880" y="5716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2"/>
          <p:cNvSpPr/>
          <p:nvPr/>
        </p:nvSpPr>
        <p:spPr>
          <a:xfrm>
            <a:off x="4767120" y="5716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Density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Density is a physical property of matter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Density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the amount of matter (mass) contained in a unit of volum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The density of solids and liquids is usually measured in grams (mass) per milliliter (volume)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g/m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For irregularly shaped objects,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water displacement 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s used to obtain a volume measurement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rmula: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314360" y="5029200"/>
            <a:ext cx="3105360" cy="990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5486400" y="4743360"/>
            <a:ext cx="2187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Density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Examples…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What is the density of a piece of wood that has a mass of 25.0 grams and a volume of 29.4 cm</a:t>
            </a:r>
            <a:r>
              <a:rPr b="0" lang="en-US" sz="2300" spc="-1" strike="noStrike" baseline="30000">
                <a:solidFill>
                  <a:srgbClr val="1f497d"/>
                </a:solidFill>
                <a:latin typeface="Bookman Old Style"/>
              </a:rPr>
              <a:t>3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?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 threw a plastic ball in the pool for my dog to fetch.  The mass of the ball was 125 grams.  What must the volume be to have a density of 0.500 g/ml?  I want the ball to float, of course!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If you haven’t done so already, read pages 34-44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With the reading, slides #32-34, and your notes,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you should be able to complete homework #5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e proud of yourself, you just made it through your first unit in chemistry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03" name="Picture 5" descr="smiley-face"/>
          <p:cNvPicPr/>
          <p:nvPr/>
        </p:nvPicPr>
        <p:blipFill>
          <a:blip r:embed="rId1"/>
          <a:stretch/>
        </p:blipFill>
        <p:spPr>
          <a:xfrm>
            <a:off x="3581280" y="4648320"/>
            <a:ext cx="1521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-152280"/>
            <a:ext cx="71344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6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5" name="Title 3"/>
          <p:cNvSpPr/>
          <p:nvPr/>
        </p:nvSpPr>
        <p:spPr>
          <a:xfrm>
            <a:off x="824040" y="4813200"/>
            <a:ext cx="696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List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which of the following represent a chemical chan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http://edu.glogster.com/media/1/9/42/67/9426718.jpg"/>
          <p:cNvPicPr/>
          <p:nvPr/>
        </p:nvPicPr>
        <p:blipFill>
          <a:blip r:embed="rId1"/>
          <a:srcRect l="0" t="7908" r="0" b="16925"/>
          <a:stretch/>
        </p:blipFill>
        <p:spPr>
          <a:xfrm>
            <a:off x="2243160" y="2232000"/>
            <a:ext cx="1390680" cy="12952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http://chemicalreactionforchildren.files.wordpress.com/2011/03/chemical-reaction-gif2.jpg"/>
          <p:cNvPicPr/>
          <p:nvPr/>
        </p:nvPicPr>
        <p:blipFill>
          <a:blip r:embed="rId2"/>
          <a:srcRect l="0" t="0" r="0" b="8338"/>
          <a:stretch/>
        </p:blipFill>
        <p:spPr>
          <a:xfrm>
            <a:off x="3736800" y="3614760"/>
            <a:ext cx="1222560" cy="1125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http://img1.etsystatic.com/000/0/5539790/il_fullxfull.187804617.jpg"/>
          <p:cNvPicPr/>
          <p:nvPr/>
        </p:nvPicPr>
        <p:blipFill>
          <a:blip r:embed="rId3"/>
          <a:srcRect l="4825" t="11610" r="8419" b="3843"/>
          <a:stretch/>
        </p:blipFill>
        <p:spPr>
          <a:xfrm>
            <a:off x="5062680" y="3598920"/>
            <a:ext cx="1547640" cy="1125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http://www.photo-dictionary.com/photofiles/list/3237/11211sawdust.jpg"/>
          <p:cNvPicPr/>
          <p:nvPr/>
        </p:nvPicPr>
        <p:blipFill>
          <a:blip r:embed="rId4"/>
          <a:srcRect l="-1709" t="9783" r="1738" b="19390"/>
          <a:stretch/>
        </p:blipFill>
        <p:spPr>
          <a:xfrm>
            <a:off x="3719520" y="223200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http://www.astrospectacular.com/wp-content/uploads/2011/10/fireworks-shows.jpg"/>
          <p:cNvPicPr/>
          <p:nvPr/>
        </p:nvPicPr>
        <p:blipFill>
          <a:blip r:embed="rId5"/>
          <a:srcRect l="0" t="0" r="9252" b="0"/>
          <a:stretch/>
        </p:blipFill>
        <p:spPr>
          <a:xfrm>
            <a:off x="5062680" y="2247840"/>
            <a:ext cx="1547640" cy="1279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4" descr="http://c1craftingagreenworldcom.wpengine.netdna-cdn.com/files/2011/07/dyeing-play-silk-with-kool-aid-tutorial-1-of-7.jpg"/>
          <p:cNvPicPr/>
          <p:nvPr/>
        </p:nvPicPr>
        <p:blipFill>
          <a:blip r:embed="rId6"/>
          <a:stretch/>
        </p:blipFill>
        <p:spPr>
          <a:xfrm>
            <a:off x="2265480" y="3614760"/>
            <a:ext cx="13683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he Scientific Method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809640" y="2506680"/>
            <a:ext cx="7524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heory vs. Law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Theory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n explanation based on many observations and supported by the results of many experiment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Scientific law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 fact of nature that is observed so often that it is accepted as the truth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2163600" y="3295800"/>
            <a:ext cx="3129120" cy="3084480"/>
          </a:xfrm>
          <a:prstGeom prst="ellipse">
            <a:avLst/>
          </a:prstGeom>
          <a:solidFill>
            <a:srgbClr val="4f81bd">
              <a:alpha val="51000"/>
            </a:srgbClr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3568680" y="3324240"/>
            <a:ext cx="3129120" cy="3083040"/>
          </a:xfrm>
          <a:prstGeom prst="ellipse">
            <a:avLst/>
          </a:prstGeom>
          <a:solidFill>
            <a:srgbClr val="4f81bd">
              <a:alpha val="46000"/>
            </a:srgbClr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511440" y="4375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Arise following many, many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TextBox 14" descr=""/>
          <p:cNvPicPr/>
          <p:nvPr/>
        </p:nvPicPr>
        <p:blipFill>
          <a:blip r:embed="rId1"/>
          <a:stretch/>
        </p:blipFill>
        <p:spPr>
          <a:xfrm>
            <a:off x="1828800" y="3103560"/>
            <a:ext cx="1395360" cy="1425600"/>
          </a:xfrm>
          <a:prstGeom prst="rect">
            <a:avLst/>
          </a:prstGeom>
          <a:ln w="0">
            <a:noFill/>
          </a:ln>
        </p:spPr>
      </p:pic>
      <p:pic>
        <p:nvPicPr>
          <p:cNvPr id="374" name="TextBox 15" descr=""/>
          <p:cNvPicPr/>
          <p:nvPr/>
        </p:nvPicPr>
        <p:blipFill>
          <a:blip r:embed="rId2"/>
          <a:stretch/>
        </p:blipFill>
        <p:spPr>
          <a:xfrm>
            <a:off x="5924520" y="3249720"/>
            <a:ext cx="1189080" cy="15714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1924200" y="44877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5092560" y="4487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you can now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omplete homework #1, part A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Review slides 3-5 and your notes to help you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swer these questions.  You will not find the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swers in your book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0" name="TextBox 4"/>
          <p:cNvSpPr/>
          <p:nvPr/>
        </p:nvSpPr>
        <p:spPr>
          <a:xfrm>
            <a:off x="1001880" y="1295280"/>
            <a:ext cx="716256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ad the following experime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ria wanted to find out if the color of food would affect whether kindergarten children would select it for lunch.  She put food coloring into 5 identical bowls of mashed potatoes.  The colors were plain, red, green, yellow, and blue.  Each child chose a scoop of potatoes of the color of their choic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What do you think the results would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 for this experiment using a “If…..then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746748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brlgc.files.wordpress.com/2012/04/diamond-gemstone.jpg"/>
          <p:cNvPicPr/>
          <p:nvPr/>
        </p:nvPicPr>
        <p:blipFill>
          <a:blip r:embed="rId1"/>
          <a:stretch/>
        </p:blipFill>
        <p:spPr>
          <a:xfrm>
            <a:off x="3124080" y="2224080"/>
            <a:ext cx="3276720" cy="2664000"/>
          </a:xfrm>
          <a:prstGeom prst="rect">
            <a:avLst/>
          </a:prstGeom>
          <a:ln w="0">
            <a:noFill/>
          </a:ln>
        </p:spPr>
      </p:pic>
      <p:sp>
        <p:nvSpPr>
          <p:cNvPr id="384" name="Title 3"/>
          <p:cNvSpPr/>
          <p:nvPr/>
        </p:nvSpPr>
        <p:spPr>
          <a:xfrm>
            <a:off x="1143000" y="4910040"/>
            <a:ext cx="6966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Write 3 words to describe this sub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Chemistry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is the science that investigates and explains the structure and properties of matter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Matter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anything that takes up space and has mas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Mass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the measure of the amount of matter that an object contain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Mass is not the same as weight.  Weight is affected by gravity where mass is not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properties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of matter describe the characteristics and behavior of matter, including the changes that matter undergo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01:10:21Z</dcterms:created>
  <dc:creator>Brandon Jones</dc:creator>
  <dc:description/>
  <dc:language>en-US</dc:language>
  <cp:lastModifiedBy>Dawn</cp:lastModifiedBy>
  <dcterms:modified xsi:type="dcterms:W3CDTF">2013-09-02T18:10:22Z</dcterms:modified>
  <cp:revision>62</cp:revision>
  <dc:subject/>
  <dc:title>Chapter 1</dc:title>
</cp:coreProperties>
</file>